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F82-440A-4D89-9FF9-EC02D230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DA8-5145-407B-AC6B-6CC18D85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902-FFEA-4374-BF8C-CFBB41FC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841-9A3E-44E5-855A-F103136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725E-F2BD-4397-8C6C-4659CB7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1A45-0E48-470A-81C8-FDD4EDED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5D8-BC4F-4A39-AB9E-F75BBC63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3615-900E-4801-838B-4AAF3D3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D467-7428-4FF3-B162-71751649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954D-7CF3-48D5-AD42-894BA10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5AB-ED4E-4946-A38C-9B7ED30D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680-12AF-4E23-A1A5-9E70702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DE64-2804-490D-B6B0-0D4F738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C94-A888-45BC-9AFD-23ABF81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450-BB44-403A-934E-251ECC14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A74-CE7D-489B-9474-21835305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54DC-439B-4BD7-89DE-E3E1380C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EF44-F3A6-4A2F-91FD-276B4672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0ADC-57D3-4B5D-8330-8A6967B4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AB1A-19FC-4B0B-8F96-6780CF2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0684-C754-4B34-A450-D66B841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8A82-7576-4282-B56C-4BB89E1C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19D-5849-43EF-B359-269917C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C8EC-DAB4-4BB7-B35D-DCE5E63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00AE1-4CB9-4DE4-A3AB-76AFC1C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AF2C-E4E3-4273-93BE-C1930F2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622C-DB59-4A01-BF16-292BC28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0A85-39AD-4842-A82D-A57590CF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BAAD-7A2D-4FEC-A8E3-F4AFF758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414C-585E-47AD-A25B-F4BD57D8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F821-2C1A-465B-B488-CC56C035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9BB7-1E7C-4BF4-BCD9-ED34B84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B7ED-A808-46F7-AEA7-AF1B7E43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D56-109F-4975-BF01-707F533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7A5F-330C-4BFA-84D3-21C34DD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DC37-D862-4323-84FA-656EE5F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9D1D-BAB7-4F02-87B1-0D1EECBC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B1B2-19D0-4715-92CF-B4AAD11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FE99-7DF2-48FC-8838-117E2AE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6345-9BDE-486D-8AAE-66F150EB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A6BD-8B2B-447A-94FF-E29F270C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3828-9153-4F16-843C-460DDDDF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9B88-F711-4CE6-ABFB-31F79B41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77FC-EF58-4D1E-B717-6859F0CB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6A5-C617-4EF3-96F9-7E01B893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4BA6-0C14-4B3D-B1A5-989DA9C7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73AA-B648-45C7-BF3F-B06C2B0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94FB-872B-4958-A9B8-AB4A2D6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4BD04-7359-4F8E-BECB-AC95901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E2AA-A776-47A6-A92E-2DB64EC3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8A8C-4BB9-48F5-BFAE-5B5B5F3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9F22-AB8A-4761-805C-B148B87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419C-72AE-448F-8DC8-66914127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7BE7-B54C-470C-8FED-EEEC6A7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98F4-005B-4D0E-86EE-48D0C88E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F98-BE25-4BF0-9C4D-B9CED372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8F49-BD9B-46C5-BD9E-C6E40266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BB3-FA6F-4A63-9BDE-E2BA2CC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212-B9A3-4375-B839-E3D90D2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EE4-49BF-457B-860C-BD2976C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E050-0A46-4B2A-A670-12685073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4EFB-F7CD-44B2-9A70-1B2329B38C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A1D6-1ED0-4076-8DCF-672A13D6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9985-CCC2-4188-AB4E-588CCFC20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C30-A727-487C-968B-84D1646D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commons/c/c0/Greek_vase_with_muse_and_kithara_on_mount_helikon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6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Mar. 21 &amp;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uided Reading  Ch. 9 Sect. 1 (front &amp;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rowth of Rome Map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0" y="1143000"/>
            <a:ext cx="914400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cus 3-21 &amp; 22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 Italy similar to Greece?  (Name at least tw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italy"/>
          <p:cNvPicPr/>
          <p:nvPr/>
        </p:nvPicPr>
        <p:blipFill>
          <a:blip r:embed="rId1"/>
          <a:srcRect l="0" t="0" r="62214" b="0"/>
          <a:stretch/>
        </p:blipFill>
        <p:spPr>
          <a:xfrm>
            <a:off x="0" y="1981080"/>
            <a:ext cx="4721400" cy="487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Large Greece Map"/>
          <p:cNvPicPr/>
          <p:nvPr/>
        </p:nvPicPr>
        <p:blipFill>
          <a:blip r:embed="rId2"/>
          <a:stretch/>
        </p:blipFill>
        <p:spPr>
          <a:xfrm>
            <a:off x="4727520" y="2028960"/>
            <a:ext cx="4416480" cy="48290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2"/>
          <p:cNvSpPr/>
          <p:nvPr/>
        </p:nvSpPr>
        <p:spPr>
          <a:xfrm>
            <a:off x="3657600" y="2057400"/>
            <a:ext cx="990720" cy="609480"/>
          </a:xfrm>
          <a:prstGeom prst="rect">
            <a:avLst/>
          </a:prstGeom>
          <a:solidFill>
            <a:srgbClr val="a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soldiers_right"/>
          <p:cNvPicPr/>
          <p:nvPr/>
        </p:nvPicPr>
        <p:blipFill>
          <a:blip r:embed="rId3"/>
          <a:srcRect l="9421" t="0" r="52943" b="0"/>
          <a:stretch/>
        </p:blipFill>
        <p:spPr>
          <a:xfrm>
            <a:off x="4343400" y="1981080"/>
            <a:ext cx="6094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191120" y="1295280"/>
            <a:ext cx="46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Sparta did not produce much art or philosophy or any written work, but its people were admired for keeping alive the Gree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152280" y="35053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 was famous for its literature, poetry, drama, theater, government, ( our own government is modeled after it ) and producing the world’s greatest thinkers. It is clearly the shining star of all the Greek   city-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spartaremains"/>
          <p:cNvPicPr/>
          <p:nvPr/>
        </p:nvPicPr>
        <p:blipFill>
          <a:blip r:embed="rId2"/>
          <a:stretch/>
        </p:blipFill>
        <p:spPr>
          <a:xfrm>
            <a:off x="304920" y="91440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arthenon"/>
          <p:cNvPicPr/>
          <p:nvPr/>
        </p:nvPicPr>
        <p:blipFill>
          <a:blip r:embed="rId3"/>
          <a:stretch/>
        </p:blipFill>
        <p:spPr>
          <a:xfrm>
            <a:off x="4343400" y="3505320"/>
            <a:ext cx="4533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Roman Empire Map"/>
          <p:cNvPicPr/>
          <p:nvPr/>
        </p:nvPicPr>
        <p:blipFill>
          <a:blip r:embed="rId1"/>
          <a:srcRect l="0" t="-2211" r="0" b="-993"/>
          <a:stretch/>
        </p:blipFill>
        <p:spPr>
          <a:xfrm>
            <a:off x="0" y="-152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Roman Empire Map"/>
          <p:cNvPicPr/>
          <p:nvPr/>
        </p:nvPicPr>
        <p:blipFill>
          <a:blip r:embed="rId1"/>
          <a:srcRect l="0" t="18487" r="0" b="5976"/>
          <a:stretch/>
        </p:blipFill>
        <p:spPr>
          <a:xfrm>
            <a:off x="228600" y="0"/>
            <a:ext cx="8534520" cy="3352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greece2"/>
          <p:cNvPicPr/>
          <p:nvPr/>
        </p:nvPicPr>
        <p:blipFill>
          <a:blip r:embed="rId2"/>
          <a:srcRect l="0" t="31798" r="10833" b="8374"/>
          <a:stretch/>
        </p:blipFill>
        <p:spPr>
          <a:xfrm>
            <a:off x="380880" y="4133880"/>
            <a:ext cx="8153640" cy="272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2514600" y="3124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 A.D.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3352680"/>
            <a:ext cx="962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ruled firs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Which empire expanded farther ea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controlled the largest area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Which empire expanded farther w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990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847800" y="5105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19810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: Tim Ram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98108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ens &amp; Sp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athena_poseidon"/>
          <p:cNvPicPr/>
          <p:nvPr/>
        </p:nvPicPr>
        <p:blipFill>
          <a:blip r:embed="rId1"/>
          <a:stretch/>
        </p:blipFill>
        <p:spPr>
          <a:xfrm>
            <a:off x="609480" y="1676520"/>
            <a:ext cx="4381560" cy="2895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rtemis"/>
          <p:cNvPicPr/>
          <p:nvPr/>
        </p:nvPicPr>
        <p:blipFill>
          <a:blip r:embed="rId2"/>
          <a:stretch/>
        </p:blipFill>
        <p:spPr>
          <a:xfrm>
            <a:off x="5410080" y="14479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990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thensmap"/>
          <p:cNvPicPr/>
          <p:nvPr/>
        </p:nvPicPr>
        <p:blipFill>
          <a:blip r:embed="rId1"/>
          <a:srcRect l="2943" t="0" r="0" b="6973"/>
          <a:stretch/>
        </p:blipFill>
        <p:spPr>
          <a:xfrm>
            <a:off x="2209680" y="358128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57200" y="457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thens and Spar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 Contrast in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04920" y="20574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lthough these city states were only 300 miles apart, their cultures were vastly different in many ways. Three of those are the treatment of children, women in society, and cus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Spartan soldier"/>
          <p:cNvPicPr/>
          <p:nvPr/>
        </p:nvPicPr>
        <p:blipFill>
          <a:blip r:embed="rId2"/>
          <a:stretch/>
        </p:blipFill>
        <p:spPr>
          <a:xfrm>
            <a:off x="7310520" y="1224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athenastatue"/>
          <p:cNvPicPr/>
          <p:nvPr/>
        </p:nvPicPr>
        <p:blipFill>
          <a:blip r:embed="rId3"/>
          <a:stretch/>
        </p:blipFill>
        <p:spPr>
          <a:xfrm>
            <a:off x="434880" y="139680"/>
            <a:ext cx="15242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2286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600" y="380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0" y="1143000"/>
            <a:ext cx="4267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Boys were taught by their mothers until age seven and then sent to a da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Other than reading, writing, and math, they were educated in the arts, government, and d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also learned how to play a ly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At eighteen, they entered military school for two addition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were taught how to be a good citizen of Athens and have good mo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Ath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3" descr="plato"/>
          <p:cNvPicPr/>
          <p:nvPr/>
        </p:nvPicPr>
        <p:blipFill>
          <a:blip r:embed="rId2"/>
          <a:stretch/>
        </p:blipFill>
        <p:spPr>
          <a:xfrm>
            <a:off x="304920" y="990720"/>
            <a:ext cx="198756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ocrates"/>
          <p:cNvPicPr/>
          <p:nvPr/>
        </p:nvPicPr>
        <p:blipFill>
          <a:blip r:embed="rId3"/>
          <a:stretch/>
        </p:blipFill>
        <p:spPr>
          <a:xfrm>
            <a:off x="2438280" y="990720"/>
            <a:ext cx="1746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5"/>
          <p:cNvSpPr/>
          <p:nvPr/>
        </p:nvSpPr>
        <p:spPr>
          <a:xfrm>
            <a:off x="152280" y="335268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Boys in Athens had to learn about Plato (above) and Socrates (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Image:Greek vase with muse and kithara on mount helikon.jpg">
            <a:hlinkClick r:id="rId4"/>
          </p:cNvPr>
          <p:cNvPicPr/>
          <p:nvPr/>
        </p:nvPicPr>
        <p:blipFill>
          <a:blip r:embed="rId5"/>
          <a:srcRect l="22902" t="4169" r="24746" b="6251"/>
          <a:stretch/>
        </p:blipFill>
        <p:spPr>
          <a:xfrm>
            <a:off x="2666880" y="3276720"/>
            <a:ext cx="14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5"/>
          <p:cNvSpPr/>
          <p:nvPr/>
        </p:nvSpPr>
        <p:spPr>
          <a:xfrm>
            <a:off x="2133720" y="-507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04920" y="365040"/>
            <a:ext cx="426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ce a son was seven years old, he was taken from his mother to go to militar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military school, they trained to be a disciplined war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ool courses were very painful and difficult. They were taught the very basics of reading and writing, but warfare was the only thing that mattered to the Spart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weren’t fed well and were taught to steal –but were punished if they were cau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rtans thought that any kind of luxury made a person spoiled, so they did not believe in entertainment or comfort.  Their food was bland and their clothes were 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had to live in barracks away from their family. They lived apart until the age of six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spartaweapons"/>
          <p:cNvPicPr/>
          <p:nvPr/>
        </p:nvPicPr>
        <p:blipFill>
          <a:blip r:embed="rId2"/>
          <a:srcRect l="6668" t="0" r="0" b="0"/>
          <a:stretch/>
        </p:blipFill>
        <p:spPr>
          <a:xfrm>
            <a:off x="4724280" y="18288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Women in Athens and 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women"/>
          <p:cNvPicPr/>
          <p:nvPr/>
        </p:nvPicPr>
        <p:blipFill>
          <a:blip r:embed="rId2"/>
          <a:stretch/>
        </p:blipFill>
        <p:spPr>
          <a:xfrm>
            <a:off x="3429000" y="2133720"/>
            <a:ext cx="2324160" cy="31906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380880" y="2057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Women were only a small step above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00400" y="990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were taught wrestling, gymnastics and combat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477120" y="17524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he passed the test for strength, she was allowed to be a citiz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3520" y="32004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were not citizens and were under their husband’s auth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304920" y="5638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 &amp; 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were arranged by the father of the br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019920" y="38862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ir husbands didn’t live at home, the women enjoyed a great deal of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152280" y="838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own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410080" y="5670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wear jewelry, make-up, or colored cl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2438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Weird Cus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8380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partan babies were washed in w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676520" y="19810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Spartan infants were not strong enough then they were thrown over a cli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335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artan boys marched without shoes to make them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1523880" y="5105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Sparta when a woman was married, her head was shaved and was made to wear men’s clothing until the ceremony was o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5486400" y="3429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Parents in Athens considered their children “youths” until the age of thi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1:58Z</dcterms:created>
  <dc:creator>Selena Ramsey</dc:creator>
  <dc:description/>
  <dc:language>en-US</dc:language>
  <cp:lastModifiedBy>poweruser</cp:lastModifiedBy>
  <dcterms:modified xsi:type="dcterms:W3CDTF">2011-03-22T12:08:16Z</dcterms:modified>
  <cp:revision>19</cp:revision>
  <dc:subject/>
  <dc:title>Slide 1</dc:title>
</cp:coreProperties>
</file>